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B92E-9AD6-4716-901C-76AB9EF8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C022-1374-4C5C-9187-AF3EB810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5E69-9990-4703-8D3B-85CA30142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BB10-437D-4A88-AB05-F383AD895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1EE6-5E62-464A-8BCE-8C0F940F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3974-B4D7-4F9B-9AB6-3275B998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7C4F-5234-45FB-9A34-818F61D7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9D91-2037-461B-81E0-F2AC6F25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B77E-8545-4F98-8DBC-75323655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A4A0-BE2D-49DA-90AF-9EBDD94C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BDB3-95D0-4338-96CA-F9AEC898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AC83-0122-42F6-9610-37DD02A4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6A8E-883E-4276-8E73-88C6054D5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x88x.com/2008/O7P98609.bmp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79640" y="0"/>
            <a:ext cx="5543640" cy="71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هاهي السماء تمطر م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لتزرع في الارض الكس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تصرخ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حتى العظام وحتى الق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الآن توقف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اليأس قاتل الا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لا طريق للعل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ا طريق ل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بلوغ المنا صعب المن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صعود السلالم للجب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صعب وأصعب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كآبة اشتع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44000" y="1773360"/>
            <a:ext cx="9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 rot="17539200">
            <a:off x="5269320" y="2586240"/>
            <a:ext cx="4721400" cy="20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62000"/>
                </a:gradFill>
                <a:latin typeface="Arial Black"/>
              </a:rPr>
              <a:t>الملل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62000"/>
              </a:gra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 rot="17503200">
            <a:off x="-273600" y="2804040"/>
            <a:ext cx="3951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58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98000"/>
                </a:gradFill>
                <a:latin typeface="Arial Black"/>
              </a:rPr>
              <a:t>قاتل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98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32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" dur="1" fill="hold"/>
                                  <p:tgtEl>
                                    <p:spTgt spid="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7:03:01Z</dcterms:created>
  <dc:creator>ALI</dc:creator>
  <dc:description/>
  <dc:language>en-US</dc:language>
  <cp:lastModifiedBy>ALI</cp:lastModifiedBy>
  <dcterms:modified xsi:type="dcterms:W3CDTF">2008-07-21T18:29:19Z</dcterms:modified>
  <cp:revision>2</cp:revision>
  <dc:subject/>
  <dc:title>الشريحة 1</dc:title>
</cp:coreProperties>
</file>